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027-85D7-4E74-B8D0-45B3F15F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5A9-AF27-422F-A4FE-1EA772E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466-C224-432E-91C3-BD8F9EEC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C59-35D9-4BD6-B9CF-4041F77D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9A2-41FD-4A90-A573-919B2CF7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3AF-FBFA-4D96-973D-61C878D1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31B-5761-4494-AB91-7A7340A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BDC-D302-4A8E-9DD4-63F06EE7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5C9-6349-4978-8039-2B3D9947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539-0BAF-45A5-A5C5-59D997D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FCB-C4ED-4B4A-840C-E996860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27C-876D-44C8-AF08-E378B3F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4B5-6DF0-4A26-877A-C3117187606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3 Ježiš je ten dobrý Past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e berie na ram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ečky, čo blúdia v tm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 verne ved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 môj 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í úzkou cestou kráč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e dáva jas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keď svet ma priťah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vojim vábi prame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prútom zastaví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m chráni ram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bôle, starosť každ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ložiť vždy pri ňom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ú on cestu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16:05Z</dcterms:modified>
  <cp:revision>21</cp:revision>
  <dc:subject/>
  <dc:title>Je veľký náš Pán, on slávy je Kráľ Nech do všetkých strán  spev vrúcnych znie chvál.</dc:title>
</cp:coreProperties>
</file>